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CDB-600B-425E-931E-B24CBBA4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27F-34D0-4B82-A2C0-9372E78E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491CB-EA5F-43BF-B405-584E3320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DFE8F-F2C2-4ED6-BD64-35DCE533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735C1-EBC3-4A9C-BFD7-466B1B4C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B1132-C86D-450A-8A7C-A4AEA221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386F6-D9F7-453C-9797-93F4058A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5A018-DB56-42EF-8637-B46EC572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5192C-9D02-4A16-97FF-D60FEA48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43422-C2C3-4320-85DB-23149636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72DFB-7A25-4A63-91B1-1412CF10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DB36D-9A36-4270-8874-A44D58DE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CF0-8C66-4053-AC54-C3AD3238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6957A-5267-46F5-B4F7-3BE66057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E2F1E-4010-46CA-BAED-07452C58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E60D9-1FF5-4D17-B18B-3932ADC1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E74C8-92D7-4488-8F4B-FC2934FD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58344-C780-4FE1-88AD-6E75ECF9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6D1EC-80B1-4AB6-B21C-68888A7F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754DC-84DA-42A8-A833-9A72C749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8FAAE-9FDB-45E1-8BEE-B920B74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A053D-D590-4CBF-9638-F716F4EF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60688-D93A-47CD-83B9-1C508C8A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4A7-CBE5-444D-B319-65351DFD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7412C-D098-48BC-8C13-89CC5516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04E9-A968-4C29-91F0-98E51961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3611-7166-4B3E-9FCA-F9FD6B9C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3F29-7D56-43AC-87DF-1C7A5395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484-CA71-4537-A513-6431C6F6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1D91-E0EC-4E59-A055-12A0E628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49A7-FE9D-455C-B111-7794AF24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A374-064B-4A39-AFB8-F4A67A87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B2D-3513-4275-8CFE-94E58563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C0CE-6017-4A36-B763-04B5F3D7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B9B3-5909-4848-BE77-93F72843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FAC0-73EF-408E-866F-221DCA25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BA3B-D9C4-4508-BFF1-08D0B33A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9EAF-E91D-48D5-9008-560D0766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7E31-E612-4C37-8F20-C0A3CBDD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91DB-5F4A-49FA-9F19-9786532F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C75D-558F-4FED-B45B-44BA94D4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AEDA-DCA8-4EDE-B175-0898A37D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086D-B637-4540-8B88-F95FFC72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792-2369-4144-A635-80737331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48BE-CDEC-4BEB-89A6-00E5BEF2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BB1D-6FE8-4E04-A06C-4D22C245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2761-C083-41ED-80B9-55AD9FC4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1B1B-E5D6-4560-96F8-6E20EC11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A43A-7749-40CA-B9CC-7EC61F65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142A4-38BE-4C80-98C9-CDDF9122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8528-774D-4406-BB13-C4DE7CC2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25ACC-7B60-4C22-BA34-1F63AFA6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86EA-9012-463A-BAF6-E8C0BC1B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F3606-3697-4CB5-B968-16B00DC6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A5F-5A2E-45CC-8186-9963A07F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D7EFE-46BF-4215-A7C5-CC27E34C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EC74-C9AA-4016-881E-96701C7A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AE8C5-94A7-41CD-BE2C-20713B3D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09D84-D39D-45A2-BEA1-FAB23392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0E73-A045-43F0-A074-E272C43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BD99-A8DE-4BCB-B930-0F07C09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6315-F5B0-49EC-A618-994A6044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62D7-D533-449A-9D44-E80F5FD8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055FB-EF60-47E7-A560-BE5ACD38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6DAC-DA1C-4A60-8426-4C4C4687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84B-3BF9-4E2D-9935-059EC5C9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206E1-5CA3-445D-A302-5409FCD6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2DCE5-3E86-4F9A-90A5-535A4451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CFB9D-774C-401E-B795-11DA7FD0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AF0F8-DD67-463A-9B1B-2B104CFF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FC2FC-8C66-48A2-84C6-FCAFF5F8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FB462-4424-4173-ABC6-A667478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D6AAD-1AE4-4F95-AEEB-2A4916AB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7E7E6-3BFA-45FC-B541-F127694A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4BBEA-76DC-437A-82A6-FA74AF6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C360B-A1DC-4EC0-8A19-252E0552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E50-7B1E-4D8B-B0E2-F69CA336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CD8BF-1723-44C0-9265-868B4B92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036C3-EEE2-413F-8119-839C3654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BC3BB-F4BC-4217-B997-7AFAD7EB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46C0A-CAC3-45E5-B917-D679BB07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7E1CD-8BF7-4F57-BBBC-D1AC2E56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69AE7-D9D0-4D3D-AC91-52F11AE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1DC73-ADF8-4F4B-B6E7-2FCA1B4C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1EC2-86DC-44B4-A8E1-383D339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DD56-24D9-4D1E-B870-0B9FE099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A76B0-7334-467A-BFAF-B380A9ED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14F-C309-49E2-B7E7-7805CB9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A2623-ECB0-4E5D-8424-3C7FE6F0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6DACF-F017-49EF-AC35-9136E4EB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F9CBD-5F4D-4D2E-8A56-F794217E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EFEC-520F-4E92-9642-33F0F0AE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A1B6D-8CF5-4052-B5BF-696E7012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8B378-E7A4-44C5-A921-FB4F9987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AD2BD-9AF3-46C9-B513-5E40E7CA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6DD2A-D3AE-4398-B615-C35B1462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F86B1-C9EE-4A73-A428-8154DE86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FB345-0A9C-4238-BC74-99485247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F24-7C07-44C3-853F-8CC2441E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E6EF-5236-4212-A325-511C7E2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C56C2-A0DF-43D8-B719-F39713B1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A3A03-9730-40C4-8A02-C723B81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30B85-C78D-4C37-81B8-BC714B97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4AAEF-DADA-4BAF-A01A-0FA19292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C5A09-5382-443B-B816-B0145704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BA9F3-A50D-4736-8CDF-9AB7B78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8E299-EAA9-44F6-8B7C-C0F6FCA6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B04FF-265F-47AA-8FFB-99E12758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25FBF-CDB8-4E4D-8511-9316B264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163-40D9-4889-BEBC-BBBB274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27F21-533B-4D22-B2AB-DBB6FB4A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AB067-0351-4BFF-BEF2-1ADE913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DD191-0C66-4AA5-86FE-439D114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3ACCC-45F9-4E30-A4C0-16BF862E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1FFD0-4D0E-45FF-B716-2F8DA14D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95B25-0F64-49A1-B992-43E6FB8A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CAA98-361B-4AC6-BBEC-E2931791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D030F-4CD4-41C3-8734-4741E0E5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329DF-4D1A-4395-9871-4A7E1726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D8F7A-D62B-4D63-ACB4-993949D8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8EE6-8640-4CE0-B110-54E092AADB7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1744-A702-445E-95D2-8B73BC1BC18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C413-CE9E-4FF2-A4C1-AE1C0406AE3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CB70-BB45-4857-90BF-E172F1738C1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A32E-7156-4656-9B57-1E2313D1BD4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8F95-6429-4E39-AE38-074FDB657D9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7D40-3F76-4F62-8C4A-35745EF364A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4F36-1D3D-4778-BA6B-3B19899D8D0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3EDE-15D6-43D9-90D1-1544E156F8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3A10-B7EC-4A56-958E-E6B9942D09C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5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2628720" cy="173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378480" y="2205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635280" y="3821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213600" y="39546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o the writing practice on p.54 and 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것이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은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이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어 교과서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말을 배우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말을 배웁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그렇습니다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(Yes, I d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한국말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 Korean (langu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우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교과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his/that/it; pro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아주 좋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누구의 옷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을 저에게 주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bject post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자동차가 많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이 연필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분이 우리 어머니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은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at; an inter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이 무엇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먹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an o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버스를 타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운동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냉장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안경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꽃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w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신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ews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달력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if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lgog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편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장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6434280" y="280044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1662120" y="5300640"/>
            <a:ext cx="1609560" cy="1481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4"/>
          <a:stretch/>
        </p:blipFill>
        <p:spPr>
          <a:xfrm>
            <a:off x="3492360" y="501804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달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9T14:28:19Z</dcterms:modified>
  <cp:revision>90</cp:revision>
  <dc:subject/>
  <dc:title>KOREAN LANGUAGE</dc:title>
</cp:coreProperties>
</file>